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16.gif" ContentType="image/gif"/>
  <Override PartName="/ppt/media/image1.wmf" ContentType="image/x-wmf"/>
  <Override PartName="/ppt/media/image15.wmf" ContentType="image/x-wmf"/>
  <Override PartName="/ppt/media/chimes.wav" ContentType="audio/x-wav"/>
  <Override PartName="/ppt/media/image7.wmf" ContentType="image/x-wmf"/>
  <Override PartName="/ppt/media/image14.gif" ContentType="image/gi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8541-ABED-4C2A-AA26-58DD1F9C3D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CA45-D9B6-486E-B98D-E0592F3E80BB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602D-3A62-446F-8A75-39C957296313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04B4-1508-414D-8CEB-A022C18A312D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853-1B44-43D7-8EA1-45E42022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E93-5151-4161-A656-B4EC6613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FA1-E926-49FA-87AC-D7AFE01A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A9A-9BD9-4D39-BD6B-7DBACFC7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B6A5-BA34-4B1F-9B14-9D78EE3E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6066-3A57-4275-BE74-6FB33386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AE8F-00BA-4EE1-BE40-71B0BE55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1965-5C36-46C5-BCB7-69ED8FD1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7B47-F0F5-4577-A61D-5FC03A2C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47C8-9AAC-4C60-AF4B-046443DC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CE0C-662D-44EC-94A9-781360C6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8F5-A1D1-4ADA-AC68-EB11299B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279A-56D4-4626-B984-4A3095DD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2BEE-93A9-4E87-8CB1-055F3DF4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8496-3777-43DA-A54B-8FC94921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AD31-0FCC-4D4F-AFA7-F970BA95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5110-7C72-4DB7-8751-AFD72A72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320-4853-40D6-B9AD-6B5EEAF4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B36-3B75-4DCA-ACEC-23B88FB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816-B573-44E2-83CB-EC7AFA4A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804-DBA3-4F83-AC10-DEA53241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9BC-7342-4893-A716-FCC0BC43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489-ACEC-476E-8B22-8CDFD844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A3E-DAC4-44B4-ACB1-9B863D1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7B3F-AF3B-47FD-8959-1A25256A46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01D-24AA-4072-AD51-7B235C662DE4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08000" y="2492280"/>
            <a:ext cx="61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d2746"/>
                </a:solidFill>
                <a:latin typeface="Arial"/>
              </a:rPr>
              <a:t>2.2 </a:t>
            </a:r>
            <a:r>
              <a:rPr b="1" lang="zh-CN" sz="6600" spc="-1" strike="noStrike">
                <a:solidFill>
                  <a:srgbClr val="fd2746"/>
                </a:solidFill>
                <a:latin typeface="Arial"/>
              </a:rPr>
              <a:t>整式的加减（第一课时）</a:t>
            </a:r>
            <a:endParaRPr b="1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9"/>
          <p:cNvSpPr/>
          <p:nvPr/>
        </p:nvSpPr>
        <p:spPr>
          <a:xfrm>
            <a:off x="1763640" y="333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去括号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971640" y="119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①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-z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5003640" y="1197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b+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1007280" y="306864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(-a+b-c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1169640" y="472428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x-y+z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1134720" y="1700280"/>
            <a:ext cx="280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 9x+9×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-z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 9x- 9z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35"/>
          <p:cNvSpPr/>
          <p:nvPr/>
        </p:nvSpPr>
        <p:spPr>
          <a:xfrm>
            <a:off x="5118480" y="1844640"/>
            <a:ext cx="323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-[3×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-b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+3c]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-(-3b+3c)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3b-3c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888840" y="3645000"/>
            <a:ext cx="478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 4×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-a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+4b+4×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-c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 - 4a+4b- 4c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766440" y="5300640"/>
            <a:ext cx="488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 - [7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-x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+7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-y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+7z]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 - (-7x-7y+7z)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= 7x+7y-7z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5" name="Picture 41" descr="678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81080" y="10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WordArt 3"/>
          <p:cNvSpPr txBox="1"/>
          <p:nvPr/>
        </p:nvSpPr>
        <p:spPr>
          <a:xfrm>
            <a:off x="539640" y="476280"/>
            <a:ext cx="50292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e549da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去括号时应注意的事项：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e549da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95520" y="155736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去括号时应先判断括号前面是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+”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号还是“－”号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351080" y="2060640"/>
            <a:ext cx="485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去括号后，括号内各项符号要么全变号，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要么全不变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53400" y="2997360"/>
            <a:ext cx="513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括号前面是“－”号时，去掉括号后，括号内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各项符号都要变成相反，不能只改变第一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项或前几项的符号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0" y="429264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括号内原有几项，去掉括号后仍有几项，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能丢项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203840" y="5084640"/>
            <a:ext cx="43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去括号法则的依据是分配律，计算时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能出现有些项漏乘的情况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250920" y="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典型例题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95280" y="836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化简下列各式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395280" y="1700280"/>
          <a:ext cx="7129440" cy="28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712944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50920" y="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例题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0" y="9079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两船从同一港口同时出发反向而行，甲船顺水，乙船逆水，两船在静水中的速度都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0   km/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水流速度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km/h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后两船相距多远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后甲船比乙船多航行多少千米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68360" y="980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826920" y="189000"/>
            <a:ext cx="3889440" cy="792000"/>
            <a:chOff x="826920" y="189000"/>
            <a:chExt cx="3889440" cy="792000"/>
          </a:xfrm>
        </p:grpSpPr>
        <p:sp>
          <p:nvSpPr>
            <p:cNvPr id="251" name="Rectangle 4"/>
            <p:cNvSpPr/>
            <p:nvPr/>
          </p:nvSpPr>
          <p:spPr>
            <a:xfrm>
              <a:off x="826920" y="244440"/>
              <a:ext cx="256572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行家看门道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Rectangle 5"/>
            <p:cNvSpPr/>
            <p:nvPr/>
          </p:nvSpPr>
          <p:spPr>
            <a:xfrm>
              <a:off x="2978280" y="233280"/>
              <a:ext cx="31572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53" name="Picture 6" descr="678"/>
            <p:cNvPicPr/>
            <p:nvPr/>
          </p:nvPicPr>
          <p:blipFill>
            <a:blip r:embed="rId1"/>
            <a:stretch/>
          </p:blipFill>
          <p:spPr>
            <a:xfrm>
              <a:off x="3392640" y="189000"/>
              <a:ext cx="132372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826920" y="365040"/>
              <a:ext cx="579600" cy="61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 Box 8"/>
          <p:cNvSpPr/>
          <p:nvPr/>
        </p:nvSpPr>
        <p:spPr>
          <a:xfrm>
            <a:off x="548712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火眼金睛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6480" y="1125360"/>
            <a:ext cx="85262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判断下列各题中的正误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7237080" y="24922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7094160" y="1773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8244000" y="39337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7236000" y="3141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1272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5840" y="1844640"/>
            <a:ext cx="53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a+(-a+3)=4a+a+3=5a+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19800" y="2421000"/>
            <a:ext cx="71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2a-b)-(6b-7a)=2a-b-6b-7a=-5a-7b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17640" y="3141720"/>
            <a:ext cx="71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(x-2y)-2(4x-6y)=3x-6y-8x+6y=-5x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7280" y="38606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(2x+4y)+(6x-2y+1)=-2x-4y+6x-2y=4x-6y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16920" y="4653000"/>
            <a:ext cx="54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-3(2x-5)=4-6x+15=19-6x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614520" y="2004840"/>
          <a:ext cx="29890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004840"/>
                    <a:ext cx="29890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7"/>
          <p:cNvSpPr/>
          <p:nvPr/>
        </p:nvSpPr>
        <p:spPr>
          <a:xfrm>
            <a:off x="468360" y="47628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温故而知新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3" name="Object 5"/>
          <p:cNvGraphicFramePr/>
          <p:nvPr/>
        </p:nvGraphicFramePr>
        <p:xfrm>
          <a:off x="614520" y="2871720"/>
          <a:ext cx="27651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" y="2871720"/>
                    <a:ext cx="2765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3708360" y="1628640"/>
          <a:ext cx="15764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1628640"/>
                    <a:ext cx="1576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3492360" y="2708280"/>
          <a:ext cx="719280" cy="4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2708280"/>
                    <a:ext cx="7192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7"/>
          <p:cNvGraphicFramePr/>
          <p:nvPr/>
        </p:nvGraphicFramePr>
        <p:xfrm>
          <a:off x="826920" y="4437000"/>
          <a:ext cx="2664000" cy="58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4437000"/>
                    <a:ext cx="266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8"/>
          <p:cNvGraphicFramePr/>
          <p:nvPr/>
        </p:nvGraphicFramePr>
        <p:xfrm>
          <a:off x="3492360" y="5229360"/>
          <a:ext cx="720720" cy="509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2360" y="5229360"/>
                    <a:ext cx="7207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9"/>
          <p:cNvGraphicFramePr/>
          <p:nvPr/>
        </p:nvGraphicFramePr>
        <p:xfrm>
          <a:off x="826920" y="3573360"/>
          <a:ext cx="2627640" cy="585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6920" y="3573360"/>
                    <a:ext cx="2627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"/>
          <p:cNvGraphicFramePr/>
          <p:nvPr/>
        </p:nvGraphicFramePr>
        <p:xfrm>
          <a:off x="3492360" y="3573360"/>
          <a:ext cx="720720" cy="509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92360" y="3573360"/>
                    <a:ext cx="7207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1"/>
          <p:cNvGraphicFramePr/>
          <p:nvPr/>
        </p:nvGraphicFramePr>
        <p:xfrm>
          <a:off x="826920" y="5229360"/>
          <a:ext cx="2627640" cy="585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5229360"/>
                    <a:ext cx="2627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2"/>
          <p:cNvGraphicFramePr/>
          <p:nvPr/>
        </p:nvGraphicFramePr>
        <p:xfrm>
          <a:off x="3564000" y="4508640"/>
          <a:ext cx="720720" cy="468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64000" y="4508640"/>
                    <a:ext cx="72072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9"/>
          <p:cNvSpPr/>
          <p:nvPr/>
        </p:nvSpPr>
        <p:spPr>
          <a:xfrm>
            <a:off x="238680" y="4221000"/>
            <a:ext cx="28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-7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Picture 4" descr="20060814095203505"/>
          <p:cNvPicPr/>
          <p:nvPr/>
        </p:nvPicPr>
        <p:blipFill>
          <a:blip r:embed="rId1"/>
          <a:stretch/>
        </p:blipFill>
        <p:spPr>
          <a:xfrm>
            <a:off x="324000" y="0"/>
            <a:ext cx="1100160" cy="1243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76360" y="549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复习旧知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1619280" y="1773360"/>
            <a:ext cx="5052960" cy="1618560"/>
            <a:chOff x="1619280" y="1773360"/>
            <a:chExt cx="5052960" cy="1618560"/>
          </a:xfrm>
        </p:grpSpPr>
        <p:sp>
          <p:nvSpPr>
            <p:cNvPr id="115" name="Text Box 6"/>
            <p:cNvSpPr/>
            <p:nvPr/>
          </p:nvSpPr>
          <p:spPr>
            <a:xfrm>
              <a:off x="1619280" y="1773360"/>
              <a:ext cx="181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+5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=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4951440" y="1797120"/>
              <a:ext cx="17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+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+5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=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1678680" y="2371680"/>
              <a:ext cx="162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-7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=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4951440" y="2444760"/>
              <a:ext cx="1631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+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-7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=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9" name="Text Box 10"/>
          <p:cNvSpPr/>
          <p:nvPr/>
        </p:nvSpPr>
        <p:spPr>
          <a:xfrm>
            <a:off x="3277800" y="17733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f20"/>
                </a:solidFill>
                <a:latin typeface="Arial"/>
              </a:rPr>
              <a:t>- 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659640" y="1773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f20"/>
                </a:solidFill>
                <a:latin typeface="Arial"/>
              </a:rPr>
              <a:t>+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278520" y="2349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f20"/>
                </a:solidFill>
                <a:latin typeface="Arial"/>
              </a:rPr>
              <a:t>+7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6659640" y="2349360"/>
            <a:ext cx="5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f20"/>
                </a:solidFill>
                <a:latin typeface="Arial"/>
              </a:rPr>
              <a:t>-7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187280" y="1268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.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化简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250920" y="4724280"/>
            <a:ext cx="45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x 3+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-7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= - 3 + 7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5163480" y="4437000"/>
            <a:ext cx="308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= 1 x 3+1 x 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-7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= 3 - 7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6" name="Group 47"/>
          <p:cNvGrpSpPr/>
          <p:nvPr/>
        </p:nvGrpSpPr>
        <p:grpSpPr>
          <a:xfrm>
            <a:off x="250920" y="2852640"/>
            <a:ext cx="8066160" cy="1170000"/>
            <a:chOff x="250920" y="2852640"/>
            <a:chExt cx="8066160" cy="1170000"/>
          </a:xfrm>
        </p:grpSpPr>
        <p:sp>
          <p:nvSpPr>
            <p:cNvPr id="127" name="Text Box 18"/>
            <p:cNvSpPr/>
            <p:nvPr/>
          </p:nvSpPr>
          <p:spPr>
            <a:xfrm>
              <a:off x="1195560" y="2852640"/>
              <a:ext cx="14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2. 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去括号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Text Box 38"/>
            <p:cNvSpPr/>
            <p:nvPr/>
          </p:nvSpPr>
          <p:spPr>
            <a:xfrm>
              <a:off x="250920" y="350208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① 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- 7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Text Box 42"/>
            <p:cNvSpPr/>
            <p:nvPr/>
          </p:nvSpPr>
          <p:spPr>
            <a:xfrm>
              <a:off x="5075280" y="3502080"/>
              <a:ext cx="324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② 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+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- 7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0" name="Group 27"/>
          <p:cNvGrpSpPr/>
          <p:nvPr/>
        </p:nvGrpSpPr>
        <p:grpSpPr>
          <a:xfrm>
            <a:off x="2050920" y="3068640"/>
            <a:ext cx="2467080" cy="1655640"/>
            <a:chOff x="2050920" y="3068640"/>
            <a:chExt cx="2467080" cy="1655640"/>
          </a:xfrm>
        </p:grpSpPr>
        <p:sp>
          <p:nvSpPr>
            <p:cNvPr id="131" name="AutoShape 41"/>
            <p:cNvSpPr/>
            <p:nvPr/>
          </p:nvSpPr>
          <p:spPr>
            <a:xfrm>
              <a:off x="2843280" y="3068640"/>
              <a:ext cx="1674720" cy="1281240"/>
            </a:xfrm>
            <a:prstGeom prst="wedgeRoundRectCallout">
              <a:avLst>
                <a:gd name="adj1" fmla="val -69717"/>
                <a:gd name="adj2" fmla="val 38601"/>
                <a:gd name="adj3" fmla="val 16667"/>
              </a:avLst>
            </a:prstGeom>
            <a:solidFill>
              <a:srgbClr val="fd2746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3 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与－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7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的 和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Line 44"/>
            <p:cNvSpPr/>
            <p:nvPr/>
          </p:nvSpPr>
          <p:spPr>
            <a:xfrm>
              <a:off x="2050920" y="4724280"/>
              <a:ext cx="798480" cy="0"/>
            </a:xfrm>
            <a:prstGeom prst="line">
              <a:avLst/>
            </a:prstGeom>
            <a:ln w="28440">
              <a:solidFill>
                <a:srgbClr val="e549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3" name="Rectangle 50"/>
          <p:cNvSpPr/>
          <p:nvPr/>
        </p:nvSpPr>
        <p:spPr>
          <a:xfrm>
            <a:off x="5140080" y="4005360"/>
            <a:ext cx="30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+1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-7</a:t>
            </a: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3743280" y="35928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观察这两组算式，看看去括号前后，括号里各项的符号有什么变化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5"/>
          <p:cNvGraphicFramePr/>
          <p:nvPr/>
        </p:nvGraphicFramePr>
        <p:xfrm>
          <a:off x="250920" y="836640"/>
          <a:ext cx="3878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3878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4140360" y="836640"/>
          <a:ext cx="3168360" cy="28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836640"/>
                    <a:ext cx="316836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Box 3"/>
          <p:cNvSpPr/>
          <p:nvPr/>
        </p:nvSpPr>
        <p:spPr>
          <a:xfrm>
            <a:off x="0" y="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分配律计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50920" y="3789360"/>
          <a:ext cx="438624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789360"/>
                    <a:ext cx="43862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6"/>
          <p:cNvGraphicFramePr/>
          <p:nvPr/>
        </p:nvGraphicFramePr>
        <p:xfrm>
          <a:off x="4500720" y="3860640"/>
          <a:ext cx="4392360" cy="277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860640"/>
                    <a:ext cx="439236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5"/>
          <p:cNvSpPr/>
          <p:nvPr/>
        </p:nvSpPr>
        <p:spPr>
          <a:xfrm>
            <a:off x="1547640" y="0"/>
            <a:ext cx="18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3300"/>
                </a:solidFill>
                <a:latin typeface="Arial"/>
              </a:rPr>
              <a:t>想一想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5" name="Picture 36" descr="20060814095203505"/>
          <p:cNvPicPr/>
          <p:nvPr/>
        </p:nvPicPr>
        <p:blipFill>
          <a:blip r:embed="rId1"/>
          <a:stretch/>
        </p:blipFill>
        <p:spPr>
          <a:xfrm>
            <a:off x="324000" y="-100080"/>
            <a:ext cx="1100160" cy="1243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1"/>
          <p:cNvSpPr/>
          <p:nvPr/>
        </p:nvSpPr>
        <p:spPr>
          <a:xfrm>
            <a:off x="2958840" y="6912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根据分配律，你能为下面的式子去括号吗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42"/>
          <p:cNvSpPr/>
          <p:nvPr/>
        </p:nvSpPr>
        <p:spPr>
          <a:xfrm>
            <a:off x="201240" y="1453680"/>
            <a:ext cx="28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(1) +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d0f20"/>
                </a:solidFill>
                <a:latin typeface="Arial"/>
              </a:rPr>
              <a:t>a-b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Rectangle 43"/>
          <p:cNvSpPr/>
          <p:nvPr/>
        </p:nvSpPr>
        <p:spPr>
          <a:xfrm>
            <a:off x="244080" y="3644280"/>
            <a:ext cx="25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(2) -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a-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24000" y="227664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 1x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-b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324000" y="429264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-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-b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3743280" y="2243160"/>
            <a:ext cx="5400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观察这两组算式，看看去括号前后，括号里各项的符号有什么变化？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中学学科网</a:t>
            </a:r>
            <a:endParaRPr b="1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397080" y="284652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d0f20"/>
                </a:solidFill>
                <a:latin typeface="Arial"/>
              </a:rPr>
              <a:t>a-b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25092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-a+b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150120" y="4941720"/>
            <a:ext cx="45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-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xa+(-1) x(-b)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2"/>
          <p:cNvSpPr/>
          <p:nvPr/>
        </p:nvSpPr>
        <p:spPr>
          <a:xfrm>
            <a:off x="1141560" y="835920"/>
            <a:ext cx="33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(1) +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d0f20"/>
                </a:solidFill>
                <a:latin typeface="Arial"/>
              </a:rPr>
              <a:t>a-b+c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1109160" y="3283920"/>
            <a:ext cx="30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(2) -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a-b+c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1258920" y="1628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 1x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-b+c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45"/>
          <p:cNvSpPr/>
          <p:nvPr/>
        </p:nvSpPr>
        <p:spPr>
          <a:xfrm>
            <a:off x="1403280" y="407664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-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-b+c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1260360" y="242100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d0f20"/>
                </a:solidFill>
                <a:latin typeface="Arial"/>
              </a:rPr>
              <a:t>a-b+c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1403280" y="537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-a+b-c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1302480" y="4797360"/>
            <a:ext cx="63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-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xa+(-1) x(-b)+(-1 ) xc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684360" y="1413000"/>
            <a:ext cx="777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括号外的因数是正数，去括号后原括号内各项的符号与原来的符号相同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括号外的因数是负数，去括号后原括号内各项的符号与原来的符号相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050920" y="3429000"/>
            <a:ext cx="58341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746"/>
                </a:solidFill>
                <a:latin typeface="黑体"/>
                <a:ea typeface="黑体"/>
              </a:rPr>
              <a:t>顺口溜：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中学学科网</a:t>
            </a:r>
            <a:endParaRPr b="1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746"/>
                </a:solidFill>
                <a:latin typeface="黑体"/>
                <a:ea typeface="黑体"/>
              </a:rPr>
              <a:t>去括号，看符号：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746"/>
                </a:solidFill>
                <a:latin typeface="黑体"/>
                <a:ea typeface="黑体"/>
              </a:rPr>
              <a:t>是“</a:t>
            </a:r>
            <a:r>
              <a:rPr b="1" lang="en-US" sz="4000" spc="-1" strike="noStrike">
                <a:solidFill>
                  <a:srgbClr val="fd2746"/>
                </a:solidFill>
                <a:latin typeface="黑体"/>
                <a:ea typeface="黑体"/>
              </a:rPr>
              <a:t>+”</a:t>
            </a:r>
            <a:r>
              <a:rPr b="1" lang="zh-CN" sz="4000" spc="-1" strike="noStrike">
                <a:solidFill>
                  <a:srgbClr val="fd2746"/>
                </a:solidFill>
                <a:latin typeface="黑体"/>
                <a:ea typeface="黑体"/>
              </a:rPr>
              <a:t>号，不变号；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746"/>
                </a:solidFill>
                <a:latin typeface="黑体"/>
                <a:ea typeface="黑体"/>
              </a:rPr>
              <a:t>是“</a:t>
            </a:r>
            <a:r>
              <a:rPr b="1" lang="en-US" sz="4000" spc="-1" strike="noStrike">
                <a:solidFill>
                  <a:srgbClr val="fd2746"/>
                </a:solidFill>
                <a:latin typeface="黑体"/>
                <a:ea typeface="黑体"/>
              </a:rPr>
              <a:t>-”</a:t>
            </a:r>
            <a:r>
              <a:rPr b="1" lang="zh-CN" sz="4000" spc="-1" strike="noStrike">
                <a:solidFill>
                  <a:srgbClr val="fd2746"/>
                </a:solidFill>
                <a:latin typeface="黑体"/>
                <a:ea typeface="黑体"/>
              </a:rPr>
              <a:t>号，全变号</a:t>
            </a:r>
            <a:r>
              <a:rPr b="1" lang="en-US" sz="4000" spc="-1" strike="noStrike">
                <a:solidFill>
                  <a:srgbClr val="fd2746"/>
                </a:solidFill>
                <a:latin typeface="黑体"/>
                <a:ea typeface="黑体"/>
              </a:rPr>
              <a:t>;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746"/>
                </a:solidFill>
                <a:latin typeface="黑体"/>
                <a:ea typeface="黑体"/>
              </a:rPr>
              <a:t>原来的符号和括号都扔掉</a:t>
            </a:r>
            <a:r>
              <a:rPr b="1" lang="en-US" sz="4000" spc="-1" strike="noStrike">
                <a:solidFill>
                  <a:srgbClr val="fd2746"/>
                </a:solidFill>
                <a:latin typeface="黑体"/>
                <a:ea typeface="黑体"/>
              </a:rPr>
              <a:t>.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539640" y="40464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去括号时符号变化的规律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403280" y="5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练习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56880" y="119700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去括号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540720" y="1773360"/>
            <a:ext cx="7455960" cy="1456920"/>
            <a:chOff x="540720" y="1773360"/>
            <a:chExt cx="7455960" cy="1456920"/>
          </a:xfrm>
        </p:grpSpPr>
        <p:grpSp>
          <p:nvGrpSpPr>
            <p:cNvPr id="168" name="Group 8"/>
            <p:cNvGrpSpPr/>
            <p:nvPr/>
          </p:nvGrpSpPr>
          <p:grpSpPr>
            <a:xfrm>
              <a:off x="540720" y="1773360"/>
              <a:ext cx="3063240" cy="696600"/>
              <a:chOff x="540720" y="1773360"/>
              <a:chExt cx="3063240" cy="696600"/>
            </a:xfrm>
          </p:grpSpPr>
          <p:sp>
            <p:nvSpPr>
              <p:cNvPr id="169" name="Text Box 6"/>
              <p:cNvSpPr/>
              <p:nvPr/>
            </p:nvSpPr>
            <p:spPr>
              <a:xfrm>
                <a:off x="540720" y="1773360"/>
                <a:ext cx="156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</a:rPr>
                  <a:t>a+(b-c)=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0" name="Text Box 7"/>
              <p:cNvSpPr/>
              <p:nvPr/>
            </p:nvSpPr>
            <p:spPr>
              <a:xfrm>
                <a:off x="2003040" y="1949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</a:rPr>
                  <a:t>————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71" name="Text Box 12"/>
            <p:cNvSpPr/>
            <p:nvPr/>
          </p:nvSpPr>
          <p:spPr>
            <a:xfrm>
              <a:off x="540720" y="2565360"/>
              <a:ext cx="187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a+(- b+c)=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2342880" y="270972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————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3" name="Group 14"/>
            <p:cNvGrpSpPr/>
            <p:nvPr/>
          </p:nvGrpSpPr>
          <p:grpSpPr>
            <a:xfrm>
              <a:off x="4932720" y="1773360"/>
              <a:ext cx="3063960" cy="696600"/>
              <a:chOff x="4932720" y="1773360"/>
              <a:chExt cx="3063960" cy="696600"/>
            </a:xfrm>
          </p:grpSpPr>
          <p:sp>
            <p:nvSpPr>
              <p:cNvPr id="174" name="Text Box 15"/>
              <p:cNvSpPr/>
              <p:nvPr/>
            </p:nvSpPr>
            <p:spPr>
              <a:xfrm>
                <a:off x="4932720" y="1773360"/>
                <a:ext cx="157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</a:rPr>
                  <a:t>a- (b-c)=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5" name="Text Box 16"/>
              <p:cNvSpPr/>
              <p:nvPr/>
            </p:nvSpPr>
            <p:spPr>
              <a:xfrm>
                <a:off x="6395760" y="1949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</a:rPr>
                  <a:t>————</a:t>
                </a:r>
                <a:endParaRPr b="1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76" name="Text Box 18"/>
            <p:cNvSpPr/>
            <p:nvPr/>
          </p:nvSpPr>
          <p:spPr>
            <a:xfrm>
              <a:off x="4645800" y="270972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a- (- b+c)=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6588000" y="285264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——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61128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判断正误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826920" y="3860640"/>
            <a:ext cx="612144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-(b+c)=a-b+c               (    )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-(b-c)=a-b-c                 (    )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b+(-3a+1)=2b-3a-1      (    )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a-(3b-c)=3a-3b+c        (    )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中学学科网</a:t>
            </a:r>
            <a:endParaRPr b="1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4788000" y="450864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×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4788000" y="386064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×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4788000" y="515772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×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3" name="Group 33"/>
          <p:cNvGrpSpPr/>
          <p:nvPr/>
        </p:nvGrpSpPr>
        <p:grpSpPr>
          <a:xfrm>
            <a:off x="2197080" y="1773360"/>
            <a:ext cx="5730480" cy="1384200"/>
            <a:chOff x="2197080" y="1773360"/>
            <a:chExt cx="5730480" cy="1384200"/>
          </a:xfrm>
        </p:grpSpPr>
        <p:sp>
          <p:nvSpPr>
            <p:cNvPr id="184" name="Text Box 29"/>
            <p:cNvSpPr/>
            <p:nvPr/>
          </p:nvSpPr>
          <p:spPr>
            <a:xfrm>
              <a:off x="2197080" y="1773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0f20"/>
                  </a:solidFill>
                  <a:latin typeface="Arial"/>
                </a:rPr>
                <a:t>a+b-c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5" name="Text Box 30"/>
            <p:cNvSpPr/>
            <p:nvPr/>
          </p:nvSpPr>
          <p:spPr>
            <a:xfrm>
              <a:off x="6591600" y="1773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0f20"/>
                  </a:solidFill>
                  <a:latin typeface="Arial"/>
                </a:rPr>
                <a:t>a-b+c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6" name="Text Box 31"/>
            <p:cNvSpPr/>
            <p:nvPr/>
          </p:nvSpPr>
          <p:spPr>
            <a:xfrm>
              <a:off x="2485800" y="2565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0f20"/>
                  </a:solidFill>
                  <a:latin typeface="Arial"/>
                </a:rPr>
                <a:t>a-b+c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7" name="Text Box 32"/>
            <p:cNvSpPr/>
            <p:nvPr/>
          </p:nvSpPr>
          <p:spPr>
            <a:xfrm>
              <a:off x="6807960" y="263700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0f20"/>
                  </a:solidFill>
                  <a:latin typeface="Arial"/>
                </a:rPr>
                <a:t>a+b-c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8" name="Text Box 35"/>
          <p:cNvSpPr/>
          <p:nvPr/>
        </p:nvSpPr>
        <p:spPr>
          <a:xfrm>
            <a:off x="6065280" y="38289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a-b-c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6013080" y="4508640"/>
            <a:ext cx="11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a-b+c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5941440" y="510696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f20"/>
                </a:solidFill>
                <a:latin typeface="Arial"/>
              </a:rPr>
              <a:t>2b-3a+1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1" name="Picture 39" descr="20060814095203505"/>
          <p:cNvPicPr/>
          <p:nvPr/>
        </p:nvPicPr>
        <p:blipFill>
          <a:blip r:embed="rId1"/>
          <a:stretch/>
        </p:blipFill>
        <p:spPr>
          <a:xfrm>
            <a:off x="0" y="0"/>
            <a:ext cx="1100160" cy="1243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0"/>
          <p:cNvSpPr/>
          <p:nvPr/>
        </p:nvSpPr>
        <p:spPr>
          <a:xfrm>
            <a:off x="4717080" y="5734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f20"/>
                </a:solidFill>
                <a:latin typeface="Arial"/>
              </a:rPr>
              <a:t>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35120" y="84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95280" y="26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例：为下面的式子去括号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95000" y="2492280"/>
            <a:ext cx="40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= +</a:t>
            </a:r>
            <a:r>
              <a:rPr b="1" lang="zh-CN" sz="40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3a-3b+3c</a:t>
            </a:r>
            <a:r>
              <a:rPr b="1" lang="zh-CN" sz="4000" spc="-1" strike="noStrike">
                <a:solidFill>
                  <a:srgbClr val="fd0f2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68360" y="335772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= 3a-3b+3c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5003640" y="36450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= -3a+3b-3c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5102280" y="2852640"/>
            <a:ext cx="39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= -</a:t>
            </a:r>
            <a:r>
              <a:rPr b="1" lang="zh-CN" sz="40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3a-3b+3c</a:t>
            </a:r>
            <a:r>
              <a:rPr b="1" lang="zh-CN" sz="4000" spc="-1" strike="noStrike">
                <a:solidFill>
                  <a:srgbClr val="fd0f2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15640" y="1844640"/>
            <a:ext cx="40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f2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= +[3</a:t>
            </a:r>
            <a:r>
              <a:rPr b="1" lang="zh-CN" sz="40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a-b+c</a:t>
            </a:r>
            <a:r>
              <a:rPr b="1" lang="zh-CN" sz="4000" spc="-1" strike="noStrike">
                <a:solidFill>
                  <a:srgbClr val="fd0f2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200" name="AutoShape 17"/>
          <p:cNvCxnSpPr/>
          <p:nvPr/>
        </p:nvCxnSpPr>
        <p:spPr>
          <a:xfrm>
            <a:off x="2487240" y="1915920"/>
            <a:ext cx="1080" cy="1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01" name="AutoShape 19"/>
          <p:cNvCxnSpPr/>
          <p:nvPr/>
        </p:nvCxnSpPr>
        <p:spPr>
          <a:xfrm>
            <a:off x="2487240" y="1915920"/>
            <a:ext cx="1080" cy="1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grpSp>
        <p:nvGrpSpPr>
          <p:cNvPr id="202" name="Group 64"/>
          <p:cNvGrpSpPr/>
          <p:nvPr/>
        </p:nvGrpSpPr>
        <p:grpSpPr>
          <a:xfrm>
            <a:off x="1403280" y="1844640"/>
            <a:ext cx="936720" cy="216000"/>
            <a:chOff x="1403280" y="1844640"/>
            <a:chExt cx="936720" cy="216000"/>
          </a:xfrm>
        </p:grpSpPr>
        <p:sp>
          <p:nvSpPr>
            <p:cNvPr id="203" name="Line 23"/>
            <p:cNvSpPr/>
            <p:nvPr/>
          </p:nvSpPr>
          <p:spPr>
            <a:xfrm>
              <a:off x="2340000" y="1844640"/>
              <a:ext cx="0" cy="21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Line 21"/>
            <p:cNvSpPr/>
            <p:nvPr/>
          </p:nvSpPr>
          <p:spPr>
            <a:xfrm>
              <a:off x="1403280" y="184464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>
              <a:off x="1403280" y="1844640"/>
              <a:ext cx="936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6" name="Group 66"/>
          <p:cNvGrpSpPr/>
          <p:nvPr/>
        </p:nvGrpSpPr>
        <p:grpSpPr>
          <a:xfrm>
            <a:off x="1403280" y="1700280"/>
            <a:ext cx="1870200" cy="360360"/>
            <a:chOff x="1403280" y="1700280"/>
            <a:chExt cx="1870200" cy="360360"/>
          </a:xfrm>
        </p:grpSpPr>
        <p:sp>
          <p:nvSpPr>
            <p:cNvPr id="207" name="Line 24"/>
            <p:cNvSpPr/>
            <p:nvPr/>
          </p:nvSpPr>
          <p:spPr>
            <a:xfrm>
              <a:off x="1403280" y="1700280"/>
              <a:ext cx="0" cy="144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1403280" y="1700280"/>
              <a:ext cx="187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9" name="Line 27"/>
            <p:cNvSpPr/>
            <p:nvPr/>
          </p:nvSpPr>
          <p:spPr>
            <a:xfrm>
              <a:off x="3273480" y="1700280"/>
              <a:ext cx="0" cy="36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0" name="Group 65"/>
          <p:cNvGrpSpPr/>
          <p:nvPr/>
        </p:nvGrpSpPr>
        <p:grpSpPr>
          <a:xfrm>
            <a:off x="1547640" y="1844640"/>
            <a:ext cx="1152720" cy="289080"/>
            <a:chOff x="1547640" y="1844640"/>
            <a:chExt cx="1152720" cy="289080"/>
          </a:xfrm>
        </p:grpSpPr>
        <p:sp>
          <p:nvSpPr>
            <p:cNvPr id="211" name="Line 26"/>
            <p:cNvSpPr/>
            <p:nvPr/>
          </p:nvSpPr>
          <p:spPr>
            <a:xfrm>
              <a:off x="1547640" y="1844640"/>
              <a:ext cx="1152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Line 28"/>
            <p:cNvSpPr/>
            <p:nvPr/>
          </p:nvSpPr>
          <p:spPr>
            <a:xfrm>
              <a:off x="2700360" y="1844640"/>
              <a:ext cx="0" cy="289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3" name="Text Box 10"/>
          <p:cNvSpPr/>
          <p:nvPr/>
        </p:nvSpPr>
        <p:spPr>
          <a:xfrm>
            <a:off x="5113080" y="1989000"/>
            <a:ext cx="38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= -[3</a:t>
            </a:r>
            <a:r>
              <a:rPr b="1" lang="zh-CN" sz="4000" spc="-1" strike="noStrike">
                <a:solidFill>
                  <a:srgbClr val="fd0f2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a-b+c</a:t>
            </a:r>
            <a:r>
              <a:rPr b="1" lang="zh-CN" sz="4000" spc="-1" strike="noStrike">
                <a:solidFill>
                  <a:srgbClr val="fd0f2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fd0f2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4" name="Group 67"/>
          <p:cNvGrpSpPr/>
          <p:nvPr/>
        </p:nvGrpSpPr>
        <p:grpSpPr>
          <a:xfrm>
            <a:off x="6156360" y="1700280"/>
            <a:ext cx="863640" cy="504720"/>
            <a:chOff x="6156360" y="1700280"/>
            <a:chExt cx="863640" cy="504720"/>
          </a:xfrm>
        </p:grpSpPr>
        <p:sp>
          <p:nvSpPr>
            <p:cNvPr id="215" name="Line 30"/>
            <p:cNvSpPr/>
            <p:nvPr/>
          </p:nvSpPr>
          <p:spPr>
            <a:xfrm flipV="1">
              <a:off x="6156360" y="1700280"/>
              <a:ext cx="0" cy="433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6" name="Line 33"/>
            <p:cNvSpPr/>
            <p:nvPr/>
          </p:nvSpPr>
          <p:spPr>
            <a:xfrm>
              <a:off x="6156360" y="1989000"/>
              <a:ext cx="863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7" name="Line 36"/>
            <p:cNvSpPr/>
            <p:nvPr/>
          </p:nvSpPr>
          <p:spPr>
            <a:xfrm>
              <a:off x="7020000" y="1989000"/>
              <a:ext cx="0" cy="21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8" name="Group 68"/>
          <p:cNvGrpSpPr/>
          <p:nvPr/>
        </p:nvGrpSpPr>
        <p:grpSpPr>
          <a:xfrm>
            <a:off x="6156360" y="1773360"/>
            <a:ext cx="1295280" cy="431640"/>
            <a:chOff x="6156360" y="1773360"/>
            <a:chExt cx="1295280" cy="431640"/>
          </a:xfrm>
        </p:grpSpPr>
        <p:sp>
          <p:nvSpPr>
            <p:cNvPr id="219" name="Line 34"/>
            <p:cNvSpPr/>
            <p:nvPr/>
          </p:nvSpPr>
          <p:spPr>
            <a:xfrm>
              <a:off x="6156360" y="1773360"/>
              <a:ext cx="1295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Line 37"/>
            <p:cNvSpPr/>
            <p:nvPr/>
          </p:nvSpPr>
          <p:spPr>
            <a:xfrm>
              <a:off x="7451640" y="1773360"/>
              <a:ext cx="0" cy="431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1" name="Group 69"/>
          <p:cNvGrpSpPr/>
          <p:nvPr/>
        </p:nvGrpSpPr>
        <p:grpSpPr>
          <a:xfrm>
            <a:off x="6156360" y="1916280"/>
            <a:ext cx="1944720" cy="215640"/>
            <a:chOff x="6156360" y="1916280"/>
            <a:chExt cx="1944720" cy="215640"/>
          </a:xfrm>
        </p:grpSpPr>
        <p:sp>
          <p:nvSpPr>
            <p:cNvPr id="222" name="Line 35"/>
            <p:cNvSpPr/>
            <p:nvPr/>
          </p:nvSpPr>
          <p:spPr>
            <a:xfrm>
              <a:off x="6156360" y="1916280"/>
              <a:ext cx="1944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Line 38"/>
            <p:cNvSpPr/>
            <p:nvPr/>
          </p:nvSpPr>
          <p:spPr>
            <a:xfrm>
              <a:off x="8101080" y="1916280"/>
              <a:ext cx="0" cy="215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4" name="Rectangle 62"/>
          <p:cNvSpPr/>
          <p:nvPr/>
        </p:nvSpPr>
        <p:spPr>
          <a:xfrm>
            <a:off x="416520" y="1051920"/>
            <a:ext cx="871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(1) +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a - b+c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   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(2)- 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a - b+c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35"/>
          <p:cNvSpPr/>
          <p:nvPr/>
        </p:nvSpPr>
        <p:spPr>
          <a:xfrm>
            <a:off x="684360" y="4797360"/>
            <a:ext cx="763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2746"/>
                </a:solidFill>
                <a:latin typeface="Arial"/>
              </a:rPr>
              <a:t>结论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括号外面的因数不是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或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-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时，把符号留在外面，把因数的绝对值按分配率乘进去，最后再去括号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3:05:28Z</dcterms:created>
  <dc:creator> </dc:creator>
  <dc:description> </dc:description>
  <cp:keywords/>
  <dc:language>en-US</dc:language>
  <cp:lastModifiedBy>微软用户</cp:lastModifiedBy>
  <dcterms:modified xsi:type="dcterms:W3CDTF">2014-06-30T01:09:53Z</dcterms:modified>
  <cp:revision>8</cp:revision>
  <dc:subject>  </dc:subject>
  <dc:title> </dc:title>
</cp:coreProperties>
</file>